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68998"/>
        <c:axId val="87573570"/>
      </c:barChart>
      <c:catAx>
        <c:axId val="47689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73570"/>
        <c:crosses val="autoZero"/>
        <c:auto val="1"/>
        <c:lblAlgn val="ctr"/>
        <c:lblOffset val="100"/>
        <c:noMultiLvlLbl val="0"/>
      </c:catAx>
      <c:valAx>
        <c:axId val="875735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89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5DF2-9BC6-4920-8D8D-8499BB7E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740C-B23F-43B5-A76D-6AA582A2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B0A1-2F02-4C45-BF09-C87BA5B5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7DA4-EA37-450E-A1CC-F325AEB5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EF20-CD56-46F3-AAB5-2BFEA71B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F175-1A64-44D7-B55D-BF62D500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FB6A-1959-4E50-AE03-217CAC71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B196-E6EB-417C-90F3-7FB948E7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D445-BC7E-4196-95C0-B0F71873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D880-2439-41E7-8299-42C66C53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2C6D-5771-4DB4-ACE4-B6E29417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5412-5DEC-47D4-A8B3-038F8EE0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4AEF5-C7AE-412C-BF17-1308201774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