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6136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3613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3613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066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6136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13800" y="131760"/>
            <a:ext cx="1218960" cy="7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etlib.org/lapack/individualroutines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sourceforge.net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cp4.ac.uk/dist/html/C_library/cmtzlib_8h.html" TargetMode="External"/><Relationship Id="rId2" Type="http://schemas.openxmlformats.org/officeDocument/2006/relationships/hyperlink" Target="http://doc.trolltech.com/4.0/classes.html" TargetMode="External"/><Relationship Id="rId3" Type="http://schemas.openxmlformats.org/officeDocument/2006/relationships/hyperlink" Target="http://docs.python.org/api/genindex.html" TargetMode="External"/><Relationship Id="rId4" Type="http://schemas.openxmlformats.org/officeDocument/2006/relationships/hyperlink" Target="http://www.rush3d.com/reference/opengl-bluebook-1.0/" TargetMode="External"/><Relationship Id="rId5" Type="http://schemas.openxmlformats.org/officeDocument/2006/relationships/hyperlink" Target="http://www.nag.co.uk/numeric/fl/manual/html/FLlibrarymanual.asp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1592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dern approaches to programming</a:t>
            </a:r>
            <a:br>
              <a:rPr sz="2800"/>
            </a:br>
            <a:br>
              <a:rPr sz="36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alf W. Grosse-Kunstlev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putational Crystallography Initiative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wrence Berkeley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31640" y="10476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iena Computational Crystallography Schoo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ON block with associate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precision a, b, c, alpha, beta, gam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MMON /unit_cell/ a, b, c, alpha, beta, gam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broutine ucinit(a, b, c, alpha, beta, gam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precision function ucvol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ouble precision function stol(h, k, 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associations are im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icult for others to see the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04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 unit_cel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__init__(self, a, b, c, alpha, beta, gam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vol(sel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stol(self, h, k, 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’s in the na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, struct, type, user-defined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associations are ex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asier for others to see the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04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unit_cel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__init__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a, b, c, alpha, beta, gam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vol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stol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h, k, 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at’s in the na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, struct, type, user-defined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associations are explic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asier for others to see the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amespace with life-time: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sel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MON block = on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= blueprint for creating arbitrari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n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nst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hex = unit_cell(10, 10, 15, 90, 90, 12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rho = unit_cell(7.64, 7.64, 7.64, 81.79, 81.79, 81.79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s on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other of the sam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de the class definit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re both calle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elf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at's in the na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lf, this, instance,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live at the sam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e memory f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x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h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is allocated when the object is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nstru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time: a true 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true story about my cars, told in the Python langu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lass ca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f __init__(self, name, color, year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name =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color = co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year =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1 = car(name="Toby", color="gold", year=198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2 = car(name="Emma", color="blue", year=198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3 = car(name="Jamson", color="gray", year=19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 car1 # donated to cha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 car2 # it was stole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r4 = car(name="Jessica", color="red", year=199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 view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returning on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al function stol(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 = stol(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return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lti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lass wilson_scal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f __init__(self, f_obs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k =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f.b =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ilson = wilson_scaling(f_o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 wilson.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nt wilson.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is a generalization of a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9440" y="104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amespace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class is a name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class is a blueprint for object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truc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the blueprint the object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f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utside the object is just another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en to use clas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for “big things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it expensi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you think about a group of data as one entity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&gt; use a class to formalize the grou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you have an algorithm with 2 or more result value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&gt; implement as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same source code works for differen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tim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fault” in dynamically typed languages (scripting languag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ry complex in statically typed languages (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ile-tim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++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ile-time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al id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subroutine seigensystem(matrix, values, vect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subroutine deigensystem(matrix, values, vect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real             matrix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double precision matrix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real             value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double precision value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     real             vector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     double precision vectors(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se grep or some other command to generate the single and double precision ver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al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etlib.org/lapack/individualroutines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ile-time 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emplate &lt;typename FloatType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 eigen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igensystem(FloatType* matri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//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igensystem&lt;float&gt; es(matri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igensystem&lt;double&gt; es(matri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C++ template machine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omaticall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generates the type-specific co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as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6502 machine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as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tran 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sh, 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er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yth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st five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ython &amp; C++ -&gt; cctbx, phe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ment foc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henix.refine, phenix.hy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CL/T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tran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ynamic memory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mmon sympt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lease increas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AX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and recomp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nual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ynamic memory management via malloc &amp;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mmon sympt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emory lea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gmentation fa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uffer overruns (vector for virus attac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ustry for debugging tools (e.g. purif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: Axel Brunger’s ingenious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ght: stack does automatic memory managemen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routine action(arg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locat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ll action2(args, resour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allocat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routine action2(args, resour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umbersome (boiler pl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: Axel Brunger’s ingenious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ght: stack does automatic memory managemen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routine action(arg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locat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all action2(args, resour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allocat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broutine action2(args, resour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o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umbersome (boiler pl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ormalization of object construction and deletion (cla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ymorph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sult = fully automatic memor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fault” in scripting langu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arbage collection, reference coun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++ Standard Template Library (STL) container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d::vector&lt;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d::set&lt;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d::list&lt;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se the STL container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use new and dele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cept in combination with smart poin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td::auto_ptr&lt;T&gt;, boost::shared_ptr&lt;T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broutine matrix_inversion(a, ier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matrix_inversion(a, ier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 (ierr .ne. 0) stop 'matrix not invertible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er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has to be propagated and checked throughout the call hierarchy -&gt; serious clu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 side-step the clutter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ot suitable as libr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ulation of exception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program </a:t>
            </a:r>
            <a:r>
              <a:rPr b="1" lang="en-US" sz="1500" spc="-1" strike="noStrike">
                <a:solidFill>
                  <a:srgbClr val="3333cc"/>
                </a:solidFill>
                <a:latin typeface="Courier New"/>
              </a:rPr>
              <a:t>to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call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ierr .ne. 0) th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write(6, *) 'there was an error', ier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i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subroutine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call </a:t>
            </a:r>
            <a:r>
              <a:rPr b="1" lang="en-US" sz="15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ierr .ne. 0) retur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do something usef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subroutine </a:t>
            </a:r>
            <a:r>
              <a:rPr b="1" lang="en-US" sz="15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call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ierr .ne. 0) retur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do something usef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subroutine </a:t>
            </a:r>
            <a:r>
              <a:rPr b="1" lang="en-US" sz="15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(args, ier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f (args are not good) th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ierr = 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retur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i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do something usefu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en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629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9800" y="3772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4915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ception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op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r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xcep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Error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, detail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nt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high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# do something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edium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# do something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f </a:t>
            </a:r>
            <a:r>
              <a:rPr b="1" lang="en-US" sz="1800" spc="-1" strike="noStrike">
                <a:solidFill>
                  <a:srgbClr val="00cc99"/>
                </a:solidFill>
                <a:latin typeface="Courier New"/>
              </a:rPr>
              <a:t>low_level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args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 (args are not goo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ai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Error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("useful error message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# do something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133720" y="2209320"/>
            <a:ext cx="4876200" cy="2210040"/>
            <a:chOff x="2133720" y="2209320"/>
            <a:chExt cx="4876200" cy="2210040"/>
          </a:xfrm>
        </p:grpSpPr>
        <p:sp>
          <p:nvSpPr>
            <p:cNvPr id="96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943240" y="365724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74284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191120" y="2133720"/>
            <a:ext cx="2590560" cy="761400"/>
            <a:chOff x="4191120" y="2133720"/>
            <a:chExt cx="2590560" cy="761400"/>
          </a:xfrm>
        </p:grpSpPr>
        <p:sp>
          <p:nvSpPr>
            <p:cNvPr id="101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1120" y="2133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com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191120" y="2133720"/>
            <a:ext cx="2590560" cy="761400"/>
            <a:chOff x="4191120" y="2133720"/>
            <a:chExt cx="2590560" cy="761400"/>
          </a:xfrm>
        </p:grpSpPr>
        <p:sp>
          <p:nvSpPr>
            <p:cNvPr id="104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133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via SourceFo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752840" cy="147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1673280" cy="17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6732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SourceForge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3124080"/>
            <a:ext cx="2438640" cy="8575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133720" y="3733560"/>
            <a:ext cx="2466720" cy="764640"/>
            <a:chOff x="2133720" y="3733560"/>
            <a:chExt cx="2466720" cy="764640"/>
          </a:xfrm>
        </p:grpSpPr>
        <p:sp>
          <p:nvSpPr>
            <p:cNvPr id="113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0920" y="40384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im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038480" y="2133720"/>
            <a:ext cx="2743200" cy="761400"/>
            <a:chOff x="4038480" y="2133720"/>
            <a:chExt cx="2743200" cy="761400"/>
          </a:xfrm>
        </p:grpSpPr>
        <p:sp>
          <p:nvSpPr>
            <p:cNvPr id="116" name=""/>
            <p:cNvSpPr/>
            <p:nvPr/>
          </p:nvSpPr>
          <p:spPr>
            <a:xfrm flipV="1">
              <a:off x="5715000" y="220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21337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check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33720" y="3733560"/>
            <a:ext cx="2466720" cy="764640"/>
            <a:chOff x="2133720" y="3733560"/>
            <a:chExt cx="2466720" cy="764640"/>
          </a:xfrm>
        </p:grpSpPr>
        <p:sp>
          <p:nvSpPr>
            <p:cNvPr id="119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0920" y="40384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3720" y="3733560"/>
            <a:ext cx="2466720" cy="764640"/>
            <a:chOff x="2133720" y="3733560"/>
            <a:chExt cx="2466720" cy="764640"/>
          </a:xfrm>
        </p:grpSpPr>
        <p:sp>
          <p:nvSpPr>
            <p:cNvPr id="122" name=""/>
            <p:cNvSpPr/>
            <p:nvPr/>
          </p:nvSpPr>
          <p:spPr>
            <a:xfrm flipV="1">
              <a:off x="2133720" y="373356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40384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vs com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dern languages are the result of an ev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uperset of more traditional langu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al programmer can write Fortran in any langu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signed to support large collaborative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owever, once the concepts are familiar even small projects are easi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ve common problems of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emory lea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rror propagation from deep call hierarch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signed to reduce redundancy (boiler pl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f the modern facilities are used carefully the boundary between "code" and documentation begins to bl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specially if runtime introspection is used as a learning 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adily available and m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 and C++ compilers are at least as accessible as Fortran compil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apidly growing body of object-oriented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t can be difficult to predict runtime behav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empting to use high-level constructs as black box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You have to absorb the conce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yntax is secondary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owever: Python is a fantastic learning tool that embodies all concepts outlined in this ta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xcept for compile-time polymorphis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al Crystallography Toolbo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5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pen-source component of phe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tomation of macromolecular crystallograp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m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macromolecular toolb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general crystall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general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btb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self-contained cross-platform buil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on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– make re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ytho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cripting layer (written in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os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C++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ctly two external dependenc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S &amp; C/C++ compi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824544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ganizers of this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ul Ad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vel Afon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eter Zw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ck Sa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gel Mori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ik McK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evin Cowt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Abrah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pen source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640" y="584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ttp://www.phenix-online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7240" y="58435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http://cctbx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whole is more than the sum of its pa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yntax is second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modern 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ou could write everything your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ou could write everything in machin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ign of Modern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pport large-scale projects &lt;-&gt; Support collab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ximize code reuse &lt;-&gt; Minimize redunda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ftware miracle: improves the more it is sha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concepts behind modern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mesp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special namespace: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utomatic memory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urrent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er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nd, public, protected, priv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modern 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ou could write everything your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You could write everything in machin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ign of Modern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upport large-scale projects &lt;-&gt; Support collab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ximize code reuse &lt;-&gt; Minimize redunda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ftware miracle: improves the more it is sha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ame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tz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CP4 CMTZ librar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cp4.ac.uk/dist/html/C_library/cmtzlib_8h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Q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Qt GUI toolk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doc.trolltech.com/4.0/classes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y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yth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docs.python.org/api/genindex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lSometh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penGL librar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rush3d.com/reference/opengl-bluebook-1.0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0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0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AG librar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nag.co.uk/numeric/fl/manual/html/FLlibrarymanual.a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oes not require support from th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ave to writ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XXSomething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all th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sting is impract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2400" y="104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of programming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4740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ame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m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milar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nsition from flat file systems to files and direc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amespace MTZ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oes require support from th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side a namespace it is sufficient to writ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s opposed to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XXXSomet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esting “just work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f you know how to work with a directories you know how to work with name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54:07Z</dcterms:created>
  <dc:creator>Preferred Customer</dc:creator>
  <dc:description/>
  <dc:language>en-US</dc:language>
  <cp:lastModifiedBy>rwgk</cp:lastModifiedBy>
  <cp:lastPrinted>2000-05-17T13:59:33Z</cp:lastPrinted>
  <dcterms:modified xsi:type="dcterms:W3CDTF">2005-08-19T07:56:53Z</dcterms:modified>
  <cp:revision>742</cp:revision>
  <dc:subject/>
  <dc:title>High-throughput structure determination</dc:title>
</cp:coreProperties>
</file>